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83F0-CDE9-4028-B56F-2FD8E1226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A64D-6F2C-45F3-BA11-881D38CCD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05DD-9223-40D2-A0C6-66132ABC8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4000-B384-4F1D-BDBE-345813648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E4DEC-CFB4-4620-82D2-8BE3BEB6B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CA2BC-F9E8-4383-90F9-47A43FADD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56614-0DDD-47EF-AEFB-6E52BB5E4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06843-A9AE-41A8-BC28-47427F775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36DA5-CED4-4B57-A052-5C6762F99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C3E1A-2C8B-416A-A142-A34D5A62A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E419A-D603-44A6-8D53-DA89CBDA3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EECC-F891-4643-9977-9A08ED56E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D41CD-052A-4968-9B8F-B157EE557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7A851-7CE1-478C-8183-4F4E1EF29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BF394-AC09-4177-B782-678C70DF5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15138-82FC-480A-8702-57FFE0858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F5B6A-0647-490B-9BEA-95676AE76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8268-0856-48D3-B918-151F14EDD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E5A2-7A22-4A4D-A607-34BA86271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C43D-5685-47AC-B08D-6D6CC347A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1E00-7FF1-4403-A494-C8C0D9FF5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1143-06A0-4D2F-9747-C8B8ABBD6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FDF6-D0D2-410C-A63E-992901851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03D2-42B7-41F8-96AD-3FDA3D2D8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C4F46-E12C-47A9-B5A2-3E56FE381D19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D8BE5-0322-4CD9-8F28-E109E47F9AAC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DIADYNAMIC CURRENT(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역동 전류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asking effect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떤 증상을 다른 증상으로 바꾸어 그 효과를 모르게 하는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뇌에서 못 느끼게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 효과 발생이 특징인 전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 진통 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제거하면 진통 사라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티프라민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이 감각으로 바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얼음 마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관운동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iaclynamic current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로서 자극은 조직 내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histanine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을 유리시키는 결과로 충혈과 혈관 확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접적으로 천층 조직에 일어나지만 그 결과 반사적으로 심층에서도 발생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자극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특히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를 사용할 때 근 수축이 잘 일어나며 혈류 증대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동감의 자극 동통의 중추적 가면 효과를 일으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연부조직 손상 – 염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타박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상과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장애 – 고정 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 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장애 –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Raynoid’s disease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삼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말초신경장애 – 신경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상포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adiculopathy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금기증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저주파 전기치료의 금기증에 준한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심장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피부상처 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마비부위 – 강하게 적용하지 않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돌출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임신한 사람의 피부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in spot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술 –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위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근방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 지절 근위부 혹은 통증부를 지배하는 신경근 위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erve trunk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천층 말초신경의 경로를 따라서 배치 자극되는 신경에 의해 적용부위에 얼얼한 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ravertebral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두 도자를 통증부에 지배하는 신경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evel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척추골 양측에 둔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Vasotropic application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향 혈관성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되어지는 순환장애부의 맥관 통로를 따라 도자 적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) Myo-energetic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수축론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복의 양단에 도자 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술로는 근육의 운동점에 한 도자가 사용되고 다른 도자는 근육 근위쪽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위를 통한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치료를 위해 관절 양측에 대면법으로 도자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양한 규격의 도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습기 있는 스폰지 패드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임상적 적용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형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F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 치료환자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른 전류 적용 전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 장애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에는 효과적이지 못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처음에는 따끔따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나중에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렇지도 않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263160" y="468000"/>
            <a:ext cx="81946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M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경련 없는 통증치료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전감보다 더 오래 지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침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투적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다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C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성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빠르게 감소되는 세밀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강하고 일정한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충분한 강도로 율동적 근수축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-360" y="468360"/>
            <a:ext cx="8458200" cy="602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L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래 지속되는 진통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치료에 있어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병용하여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느리게 상하강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진동적인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을 느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5) RS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에 파라딕 형태의 근육자극을 위해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신경의 흥분성을 검사하기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치료강도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93400" y="1295280"/>
            <a:ext cx="8164440" cy="50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한정된 진동과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 통전감이 느껴질 때까지 서서히 증가시켜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은 느껴지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체적인 치료시간 범위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을 초과하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일적용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간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DF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CP: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LP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MF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S: 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반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-7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일 혹은 격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Fixed Diphase(DF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고정된 이상성 전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형파를 진공관을 통과시켜 변조시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정현파를 전파장으로 정류시킨 단속 간격이 없는 직류 분획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밀한 진동과 따끔거리는 세동이 빠르게 사라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민감성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보다 덜 국한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일시적 진동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율신경의 진통 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강한 진통적 진정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spasm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AN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극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진정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97040" y="3583080"/>
            <a:ext cx="7680240" cy="27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2) Fixed Monophase(MF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고정된 단상성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97960" y="1047600"/>
            <a:ext cx="7859880" cy="529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단속평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정현파를 반파장으로 전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pulse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interval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이 각각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10ms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침투적 진동감이 강하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운동신경 자극역치는 상대적으로 약한 강도로도 가능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강축을 피해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진통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긴장성 발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비경련성 장기 부종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결합조직과 근육의 긴장성 증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장기의 퇴행성 부위와 염증의 국소적 진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척추분절과 좁은 압통점 부위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근수축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순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전부위의 순환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23920" y="0"/>
            <a:ext cx="8920080" cy="3159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235080" y="3392640"/>
            <a:ext cx="890892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3) Short Period: Courtes Periods(CP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단기간의 통전시간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7120" y="1425600"/>
            <a:ext cx="77724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 동안 쉬지 않고 교대로 반복해서 들어오는 전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교대 주파수는 선명하게 식별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 효과 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액 순환 증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만성 통증에 좋으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지 파형 중에서 혈종과 부종 흡수에 가장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후 질환에 있어서 진통효과에 부과된 부종 흡수와 좌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4) Long Period(LP: 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긴 통전시간 전류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9880" y="1294920"/>
            <a:ext cx="7888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5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진폭이 변조되는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 이어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로 구성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긴 통전시간과 진폭이 변조된 까닭으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는 강한 진동과 세밀한 세동 사이의 완만하고 급격한 변화가 있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의 사전치료에 이어서 실시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급성 통증 질환에 빠르고 지속적인 진통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그 외에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와 같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98360" y="279360"/>
            <a:ext cx="8558280" cy="31147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212760" y="3492360"/>
            <a:ext cx="8597880" cy="27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5) Rhythme Syncope(RS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리듬적 중력전략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52440" y="1193760"/>
            <a:ext cx="810576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휴식에 이어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가 전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리된 전형 파형 내에서는 매우 강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격근에 강한 자극과 진통효과가 있지만 신경변성이 전체적으로 없을 때에만 사용 가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응전류 흥분성을 위한 진단 목적으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무용성 근약증의 경우 골격근 자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결부 연화를 위해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유착 조직의 괴리를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8T14:31:51Z</dcterms:created>
  <dc:creator>win xp</dc:creator>
  <dc:description/>
  <dc:language>en-US</dc:language>
  <cp:lastModifiedBy>win xp</cp:lastModifiedBy>
  <dcterms:modified xsi:type="dcterms:W3CDTF">2005-03-28T14:32:54Z</dcterms:modified>
  <cp:revision>2</cp:revision>
  <dc:subject/>
  <dc:title>DIADYNAMIC CURRENT(역동 전류)</dc:title>
</cp:coreProperties>
</file>